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67F-2345-4BB8-85EF-85E31644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B87-B5C8-44CC-8561-2B0A0694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262-7BD7-4A73-9B12-A0702F25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BAD-B0E4-4152-9CB2-4541396A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6ADA-672F-4632-B11B-721382F0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DDF8-CD1A-4EE1-A733-904DAEFF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8614-3A37-40B6-85A9-1C6ECE20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041C-9EC1-45A0-9988-0D9A4E7B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EAA5-4004-4C3C-A61E-6DC32BB5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8DDD-EE60-4416-98ED-5390EB87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8647-04CF-48B2-A53D-EE8D820B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4DF-004F-4777-ADFC-EABE68C9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AA7C-4426-45CC-B78F-F9DB53C2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32AF-5133-4195-A102-84BA3DCA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30E3-FB9C-4DF6-93CF-AEE957B6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73EE-3DD3-4695-8BF9-71DB51B3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BB2C-8E7D-461E-ADC9-195D02B6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E96-649D-4FA3-86C3-898AC82E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0B8-9816-4642-9990-79B6BA97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8AD-DFFF-4451-AE33-08AE66AF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8AC-B24B-4F4C-9BD3-0C16D03C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A81-F051-4BF8-AEC5-47C4957C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756-5E16-4DB9-85E5-CE2B7842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C9A-7ADC-40B6-8371-1457F1B5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4B79-AC7E-4941-9DB3-29C9DD0DF3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79D9-4591-447D-A3D6-56B3C347C8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RAM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atya Nal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Top-lev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724120" cy="2263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581280" y="4572000"/>
            <a:ext cx="4095720" cy="2103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362320" y="1828800"/>
            <a:ext cx="877680" cy="2320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2133720" y="4456080"/>
            <a:ext cx="1160280" cy="2325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620120" y="1905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8x64 S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4114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ting through Abutment - Fillers with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useful tips for automation through Ski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procedures – with @key optional arg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a-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ggering for pitch-mat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through abu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deliver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d set of highly parametrized Skill scripts for SRAM schematic and layout gen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and user independ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-specific work – parametrization of schematic and layout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 in prog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RAM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RAM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ba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y – 8-32k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-mux – 1,2,4,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Rows – 8-5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Rows and #cols power of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block using en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/Layout script for tiling each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 script to generate final S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782800" cy="3733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56080" y="2887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782800" cy="3733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33920" y="2819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505320" y="37015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41911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48006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54100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15000" y="3657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715000" y="43434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15000" y="49525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267080" y="4495320"/>
            <a:ext cx="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3665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e-decode o/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4267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l-muxed B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A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257800" y="56383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029200" y="563832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60339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ata in &amp;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54864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56386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53341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84520" y="52578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440" y="5465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d/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952880"/>
            <a:ext cx="1066680" cy="9907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019920"/>
            <a:ext cx="1828800" cy="6858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2590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W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40240" y="389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BL P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4956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7800" y="5357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411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70120" y="4753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SAP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tic Gen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completely autom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@key in Skill procedures for optional arg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stor sizes from optimization res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4800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(UvaEceSchematicCreateInstParNand2(cvid libName cellName Iname location intop inbot out VDD VSS @key (lp 0.06) (wp 0.20) (ln 0.060) (wn 0.20) (m 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tic Gen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f-cell schematic cre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cells – PD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rs – 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thing else – Manual, can be replaced by 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W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155556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800600" y="4343400"/>
            <a:ext cx="3124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L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-program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ggered for pitch-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5680" y="2494080"/>
            <a:ext cx="4415040" cy="850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3048120" y="24379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28195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706840"/>
            <a:ext cx="1752840" cy="1522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L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L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5524560" y="2476080"/>
            <a:ext cx="228600" cy="2133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7581600" y="1256760"/>
            <a:ext cx="228600" cy="2133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Arr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602160" cy="2992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3962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ll t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tio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371600" y="35812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34340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2819520"/>
            <a:ext cx="3429000" cy="1522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4571640" y="4190760"/>
            <a:ext cx="2705400" cy="1144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334120" y="251424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019920" y="2590920"/>
            <a:ext cx="8380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Ti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1535400" cy="3074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43200" y="2438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decode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3695400" y="264888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038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placed and routed by En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out Generation: Bitsl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2011320" cy="3057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52578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819520" y="44193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666880" y="365724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0384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743200" y="304776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335268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5029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 Staggered for pitch-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4:37:53Z</dcterms:created>
  <dc:creator>uva</dc:creator>
  <dc:description/>
  <dc:language>en-US</dc:language>
  <cp:lastModifiedBy>uva</cp:lastModifiedBy>
  <dcterms:modified xsi:type="dcterms:W3CDTF">2010-05-04T15:18:42Z</dcterms:modified>
  <cp:revision>16</cp:revision>
  <dc:subject/>
  <dc:title>SRAM Generator</dc:title>
</cp:coreProperties>
</file>